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7B7-FECA-483C-8FF3-ADA84BC4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5C4-92BB-4EBC-9656-34AD4495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881-CC63-4AA1-8365-15FBC05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768-6379-4825-BA45-70BCE143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84E-4F12-493E-9D6D-2CCF753B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54A-520F-450C-84A6-9AC4981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FB1-8AEA-4149-8C6E-16FA023A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EB2-2C72-4E69-80A4-5F3B208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7C0-0612-48B2-8FB8-B7A049D8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B5C-847E-480C-A29D-34FE895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C51-14C7-408F-87DB-DEAB4DF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2A5-B0B7-41D6-A144-040A781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56816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2016000" indent="-22392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5E3-6733-4430-909C-D574F96A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P de literatura:</a:t>
            </a:r>
            <a:br>
              <a:rPr sz="6000"/>
            </a:br>
            <a:br>
              <a:rPr sz="2400"/>
            </a:b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Introducción a los géneros</a:t>
            </a:r>
            <a:br>
              <a:rPr sz="4400"/>
            </a:b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La poesí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004 – 200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uso del lenguaje poéti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destacar cierto atribut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despertar emocione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embellecer el lenguaje y crear la bellez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usar la rima y la repetición para que sea fácil de recordar (especialmente en los roma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intensificar y poner énfas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evocar una escena, un recuerdo, una memori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consegui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yor armoní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crear dinamism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a hacer la rim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a jugar con el lenguaje e invitar al lector a participar en el juego literario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8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lenguaje poéti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ambién se llaman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urs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a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terari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stilístic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tóric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gurativ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 grupo se llama ‘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op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sificaciones:  fonéticas, sintácticas, semánticas y lógicas.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8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429000" y="2133720"/>
            <a:ext cx="3429000" cy="1708920"/>
            <a:chOff x="3429000" y="2133720"/>
            <a:chExt cx="3429000" cy="1708920"/>
          </a:xfrm>
        </p:grpSpPr>
        <p:sp>
          <p:nvSpPr>
            <p:cNvPr id="90" name=""/>
            <p:cNvSpPr/>
            <p:nvPr/>
          </p:nvSpPr>
          <p:spPr>
            <a:xfrm>
              <a:off x="3429000" y="2133720"/>
              <a:ext cx="68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2895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 hay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recurs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opo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si cambian un nombre por otro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n de 4 clases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Fonétic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sonido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ntáctica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den de palabra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Comic Sans MS"/>
              </a:rPr>
              <a:t>Semántic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tropos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bio del nombre de una cosa por el nombre de ot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ógicas (de pensamiento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s figuras literari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Alit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Paranomasia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Retruécan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Calambu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 Sans MS"/>
              </a:rPr>
              <a:t>Onomatopey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ipsis/omis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síndeto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lisíndeto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á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pí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um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pitet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iperbat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aralelismo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nduplic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lípot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leanasm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Image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áfor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il:  Compa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bol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stesi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Hipérbole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erífra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rosopopey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Antíte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onimi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9999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cdoqu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Antítesi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Paradoj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Ironí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opografía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Clímax (gradación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3048120" y="159948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fon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973960" y="43394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t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7240320" y="22827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tro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7316280" y="4873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91520" y="0"/>
            <a:ext cx="1752480" cy="458640"/>
            <a:chOff x="7391520" y="0"/>
            <a:chExt cx="1752480" cy="458640"/>
          </a:xfrm>
        </p:grpSpPr>
        <p:sp>
          <p:nvSpPr>
            <p:cNvPr id="102" name=""/>
            <p:cNvSpPr/>
            <p:nvPr/>
          </p:nvSpPr>
          <p:spPr>
            <a:xfrm>
              <a:off x="7391520" y="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90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Figuras fonétic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Aliteración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la misma letra (o sonidos) al principio de las palabras:  “Los claros clarines…”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aranomasia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uso de palabras parecidas pero distintas:  “galopa y golpea”.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Retruécano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eorganización de los elementos de la oración para cambiar el sentido: “¿Siempre se ha de sentir lo que se dice? ¿Nunca se ha decir lo que se siente?”  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alambur: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o más palabras que suenan iguales:  “Si el Rey no muere, el Reino muere”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Onomatopeya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Imitar sonidos realies:  “Verde mosca, zumbándome en la frente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0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guras sintácticas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orden de palabra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ipsis (omisión)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mitir un elemento para que se destaque la idea:  “En abril, aguas mil”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nasmo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ñadir palabras innecesarias con valor enfátic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índeton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mitir la conjunción para intensificación: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Acude, corre, vuela, traspasa la alta sierra, ocupa el llano…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lisíndeton: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la conjunción para dar tono solemne: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Y sufre tanto y ofrece tentaciones, y son tan duras sus lágrimas, y …”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áfora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una o varias palabras al comienzo de la frase: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pífora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etición de una o varias palabras al final de la frase o vers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umeración: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ta de elementos:  “En polvo, en humo, en aire, en sombra, en nada.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píteto: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o del adjetivo redundante que intensifica:  “la roja sangre.”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4674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6491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oes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86000"/>
            <a:ext cx="281916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9880"/>
            <a:ext cx="28195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as sintántica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iperbat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mbio del orden gramatical de palabra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alelismo (isocolon)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ón del poema en secciones paralelas en cuanto a longitud, tono y formación sintáctic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duplicaci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una o varias palabras:  “Huye, luna luna luna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duplicación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plicación de términos encadenados:  “Cuando vuelvas, vuelve llena de regalos, regalos para todos, todos te esperamos, te esperamos impacientes.”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olípote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tición de sustantivo o adjetivo de otra forma, o de un verbo en dos tiempos:  He dudado y creo que dudaré…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18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Comic Sans MS"/>
              </a:rPr>
              <a:t>Figuras semánticas:  </a:t>
            </a:r>
            <a:r>
              <a:rPr b="0" lang="en-US" sz="4000" spc="-1" strike="noStrike" u="sng">
                <a:solidFill>
                  <a:srgbClr val="ff9999"/>
                </a:solidFill>
                <a:uFillTx/>
                <a:latin typeface="Comic Sans MS"/>
              </a:rPr>
              <a:t>tropo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(cambio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Image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aración de dos cosas, cosa con concepto, o de dos conceptos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áfor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agen:  comparación si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om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mil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agen: comparación que emplea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omo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ímbolo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ción tradicional entre dos cosas (la cruz = la religión cristiana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stesi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aración entre 2 sentidos: el olor amarill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Hipérbole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exageración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erífrasis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usar varias palabras en vez de decirlo directament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Prosopopey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ersonificación de un animal o de una cos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Metonimia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mbio del nombre por el nombre de una parte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499"/>
              </a:spcBef>
              <a:buClr>
                <a:srgbClr val="ff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Comic Sans MS"/>
              </a:rPr>
              <a:t>Sinecdoque: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mbrar un objeto con el nombre de otro:  “hay que ganar 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pa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de cada día.”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6248520"/>
            <a:ext cx="1752480" cy="458640"/>
            <a:chOff x="7772400" y="6248520"/>
            <a:chExt cx="1752480" cy="458640"/>
          </a:xfrm>
        </p:grpSpPr>
        <p:sp>
          <p:nvSpPr>
            <p:cNvPr id="123" name=""/>
            <p:cNvSpPr/>
            <p:nvPr/>
          </p:nvSpPr>
          <p:spPr>
            <a:xfrm>
              <a:off x="7772400" y="624852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8200" y="63388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Figuras lógicas: del pensamient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títesis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ntraste:  juxtaposición de conceptos contrario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aradoj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unión de dos ideas contrapuestas e irreconciliables:  “Vivo sin vivir en mí…”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póstrof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rigirse directamente a una persona.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límax (gradación): 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ran los jóvenes de Ponte d’ Hoc, los hombres que conquistaron la peña, los campeones que libraron un continente, los héroes que ayudaron a ganar la guerra.” (Reagan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roní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r lo contrario de lo que se piensa, pero de tal forma que el lector reconozca la verdadera intención.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j: “¿Qué plato es éste? 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te plato es de alacranes y víboras.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¡Gentil plato!                (Tirso de Molina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28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ocabulario de for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ílaba: 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ers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strof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i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33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¿Cuál es la diferencia entre leer el periódico y leer la literatura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ay que leer el periódico una vez (por lo menos los primeros párrafos); hay que leer la literatura varias veces para saber qué dice y cómo lo dice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 periódico es para informar;  la literatura es para crear un juego entre el escritor y el lector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ocabulario:  la forma del poe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seábase el rey moro  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r la ciudad de Granad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de la puerta de Elvir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sta la de Vivarrambla.</a:t>
            </a:r>
            <a:br>
              <a:rPr sz="28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rtas le fueron venid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ue Alhama era ganada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as carta echó en el fueg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al mensajero matara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76920" y="17524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8098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05520" y="4572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95680" y="3429000"/>
            <a:ext cx="16765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43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3505320"/>
            <a:ext cx="2133720" cy="1708920"/>
            <a:chOff x="5257800" y="3505320"/>
            <a:chExt cx="2133720" cy="1708920"/>
          </a:xfrm>
        </p:grpSpPr>
        <p:sp>
          <p:nvSpPr>
            <p:cNvPr id="146" name=""/>
            <p:cNvSpPr/>
            <p:nvPr/>
          </p:nvSpPr>
          <p:spPr>
            <a:xfrm>
              <a:off x="5867280" y="419112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estrof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3505320"/>
              <a:ext cx="6094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00"/>
                  </a:solidFill>
                  <a:latin typeface="Arial"/>
                </a:rPr>
                <a:t>}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00600" y="3048120"/>
            <a:ext cx="2895480" cy="459720"/>
            <a:chOff x="4800600" y="3048120"/>
            <a:chExt cx="2895480" cy="459720"/>
          </a:xfrm>
        </p:grpSpPr>
        <p:sp>
          <p:nvSpPr>
            <p:cNvPr id="149" name=""/>
            <p:cNvSpPr/>
            <p:nvPr/>
          </p:nvSpPr>
          <p:spPr>
            <a:xfrm>
              <a:off x="6324480" y="3048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estrib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276720"/>
              <a:ext cx="1523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24280" y="1523880"/>
            <a:ext cx="3124440" cy="520560"/>
            <a:chOff x="4724280" y="1523880"/>
            <a:chExt cx="3124440" cy="520560"/>
          </a:xfrm>
        </p:grpSpPr>
        <p:sp>
          <p:nvSpPr>
            <p:cNvPr id="152" name=""/>
            <p:cNvSpPr/>
            <p:nvPr/>
          </p:nvSpPr>
          <p:spPr>
            <a:xfrm>
              <a:off x="6248520" y="1523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ver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24280" y="1828800"/>
              <a:ext cx="152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poesí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Roma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net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15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poesía:  roma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omance” = del romano, no del amo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tilo:  fácil de recordar y canta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ene 8 sílabas en cada vers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ene la rima asonante en los versos par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omance fronterizo: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uestos por cristianos, adoptaron un punto de vista musulmá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ma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rra asuntos conocidos por el pueblo, y canta el momento clave, no toda la acció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62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:  característic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ma:  verso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octosílab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ima asonante en lo versos par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Efecto musica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l leerlo. (Son para cantar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elen relatar u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omento épico, dramático y conmoved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elen abrirs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 medias r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empezada ya la acción) y terminan de manera abrupt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y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álog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ue contribuye al efecto dramátic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67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omance del rey moro que perdió Alham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eábase el rey mor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la ciudad de Grana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de la puerta de Elvi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ta la de Vivarramb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tas le fueron veni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hama era ganad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carta echó en el fueg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l mensajero mata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95680" y="91440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cabalga de una mul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en un caballo cabalg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el Zacatín arrib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ido se había Alhamb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en el Alhambra estuv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 mismo punto mandab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se toquen su trompet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 añafiles de plat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que las cajas de guer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priesa toquen al ar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que lo oigan sus mor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de la Vega y Granad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moros que el son oyer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 sangriento Marte lla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o a uno y dos a 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untado se ha gran batal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habló un moro viej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esta manera hablar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¿Para qué nos llamas, re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ra qué e esta llamada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Habéis de saber, amig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a nueva desdicha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cristianos de bravez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a nos han ganado Alham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495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habló un alfaquí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barba crecida y can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iBien se te emplea, buen rey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en rey, bien se te emplear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iMataste los Abencerraje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eran la flor de Granad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giste los tornadiz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Córdoba la nombrad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eso mereces, rey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a pena muy doblada;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te pierdas tú y el rein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quí se pierda Granad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ma:  la rima asona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eábase el rey m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la ciudad de Gran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de la puerta de Elv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ta la de Vivarr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bl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tas le fueron ven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hama era gan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carta echó en el fu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al mensajero mat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b2b2b2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22860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0481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62520" y="3124080"/>
            <a:ext cx="1600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62520" y="3124080"/>
            <a:ext cx="16002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514600"/>
            <a:ext cx="327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s dos últimas vocales de los versos pares son a-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igue por todo el po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fusión y dud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Verso = line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omic Sans MS"/>
              </a:rPr>
              <a:t>Estrofa = verse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91520" y="6127920"/>
            <a:ext cx="1752480" cy="733320"/>
            <a:chOff x="7391520" y="6127920"/>
            <a:chExt cx="1752480" cy="733320"/>
          </a:xfrm>
        </p:grpSpPr>
        <p:sp>
          <p:nvSpPr>
            <p:cNvPr id="186" name=""/>
            <p:cNvSpPr/>
            <p:nvPr/>
          </p:nvSpPr>
          <p:spPr>
            <a:xfrm>
              <a:off x="73915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303" h="21600">
                  <a:moveTo>
                    <a:pt x="5145" y="10800"/>
                  </a:moveTo>
                  <a:lnTo>
                    <a:pt x="19158" y="3794"/>
                  </a:lnTo>
                  <a:lnTo>
                    <a:pt x="19158" y="17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61279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es de poes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ma consona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diez cañones por banda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ento en popa a toda 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l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 corta el mar, sino v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l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 velero bergant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í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jel pirata que llama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 su bravura el Tem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d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 todo mar conoc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id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l uno al otro conf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í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 esta sección, tiene la rima consonante así:  son dos cuartetos que tienen rima consonante en el segundo y tercer verso de cada uno, y rima consonante entre el cuarto verso de cada uno.  Es decir:  (x) a a b, (x) c c b. 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troducción a la literatur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l estudio de la literatura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 es sólo leer para saber qué pasó;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 el análisis de la acción, la forma, el tono, y el lenguaje.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y q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er y comprender,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ender el vocabulario para analizar la literatura, 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locarla en su ambiente histórico (movimientos, estilo, época histórica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contar las sílab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-se-á-ba-se el- rey –mo-r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-la-ciu-dad-de-Gra-na-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s-de-la-puer-ta-de El-vi-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s-ta-la-de-Vi-va-rram-bl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-de-mi Al-ha-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-tas-le-fue-ron-ve-ni-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l-ha-ma er-a-ga-na-da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-car-tas-e-chó en-el-fue-g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-al-men-sa-je-ro-ma-ta-r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Ay de mi Alhama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676520"/>
            <a:ext cx="76176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259092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3429000"/>
            <a:ext cx="914400" cy="53352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02920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4952880"/>
            <a:ext cx="761760" cy="3812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5486400"/>
            <a:ext cx="76176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5943600"/>
            <a:ext cx="762120" cy="38088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contar las sílaba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bre las aguas del 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mar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350532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 la última sílaba lleva el golpe (palabra monosílaba, o si lleva acento escrito, o si el golpe cae en la última sílaba, se le agrega una síla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ma LI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oscuras golondrin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n tu balcón sus nidos a colg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con el ala a sus cristale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ugando llamarán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que el vuelo refrenaba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hermosura y mi dicha al contempl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quellas que aprendieron nuestros nombre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án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tupidas madreselv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tu jardín las tapias a escal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a la tarde, aún más hermos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s flores se abrirá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cuajadas de rocío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uyas gotas mirábamos temblar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caer, como lágrimas del día...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án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del amor en tus oido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palabras ardientes a sonar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corazón de profundo sueño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al vez despertará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mudo y absorto y de rodill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o se adora a Dios ante su altar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 yo te he querido..., desengáñate: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¡Así no te querrá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6095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rofas / versos / sílabas / 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ma LI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oscuras golondrin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n tu balcón sus nidos a colg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con el ala a sus cristale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ugando llama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que el vuelo refrenaba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hermosura y mi dicha al contemp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quellas que aprendieron nuestros nombre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án las tupidas madreselva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tu jardín las tapias a esca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otra vez a la tarde, aún más hermos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s flores se abri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aquellas cuajadas de rocío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uyas gotas mirábamos tembl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Y caer, como lágrimas del día...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as... ¡no 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Volve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l amor en tus oidos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palabras ardientes a son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u corazón de profundo sueño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Tal vez desperta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ero mudo y absorto y de rodillas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o se adora a Dios ante su alt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r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m yo te he querido..., desengáñate: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¡Así no te querr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á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6095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ma asonante d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-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 los versos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Pe/ro/ mu/do/ y ab/sor/to y/ de ro/di/lla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vocal + y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y + vocal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ocal + y + vocal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2:  do / yab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olpe en la penúltima:  llano o grav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olpe en la última sílaba:  agud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sdrújulo:  golpe en la antepenúlti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breesdrújulo:  golpe en la ante-antepenúltima sílab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 termina en sílaba sobreesdrújula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engáñat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Si termina en golpe en la última sílaba:  + 1]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i termina el golpe en la antepenúltima: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 del Conde Arnald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bre las aguas del m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hubo el conde Arnal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ñana de San Juan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un falcón en la man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caza iba a caz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o venir una gale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 tierra quiere llegar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velas traía de sed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ejercía de un cendal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rinero que la man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ciendo viene un canta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la mar facía en cal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vientos face amain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95320" y="990360"/>
            <a:ext cx="4496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peces que andan n’el ho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riba los face andar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aves que andan vola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’el mástel las faz posar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fabló el conde Arnald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en oiréis lo que dirá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Dios te ruego,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ígasme ora ese cantar.—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pondióle el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l repuesta le fue a dar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Yo no digo esta canció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quien conmigo v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omance del Conde Arnald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Quién hubiese tal ventu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bre las aguas 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o hubo el conde Arnaldo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mañana de Sa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ua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 un falcón en la man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caza iba a caz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o venir una galer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a tierra quiere lle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velas traía de sed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ejercía de un ce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rinero que la mand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ciendo viene un ca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e la mar facía en calma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vientos face a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4496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s peces que andan n’el ho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riba los face an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s aves que andan voland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’el mástel las faz po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llí fabló el conde Arnaldos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en oiréis lo que di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á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Por Dios te ruego,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ígasme ora ese ca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—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pondióle el marinero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l repuesta le fue a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-Yo no digo esta canció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o a quien conmi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os géner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ovel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uent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ra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nsayo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-685800">
              <a:spcBef>
                <a:spcPts val="901"/>
              </a:spcBef>
              <a:buClr>
                <a:srgbClr val="ddddd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mic Sans MS"/>
              </a:rPr>
              <a:t>[Crónica]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2057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:  forma nar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8288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905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971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álog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osa o poes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733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conc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 expositiv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 opin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Cruce entre la literatura y la historia:  Naufrag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a poesí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Lectur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análi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Clas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poesí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lenguaje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us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d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lenguaje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El fin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los recursos literario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El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vocabulario poétic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Forma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poesí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 leer un po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erlo como si fuera prosa, y pausar según la puntuación, no al terminar cada verso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uscar el sentido general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6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álisis del po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ro: mencionar el título, el poet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se de poesí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írico, heríoco, religioso, etc.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ma (estrofas, versos, sílaba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ma (consonante o asonante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cursos literarios (nombre, ejemplo de los poemas)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y lo que añaden al poema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ensaje del poem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acción persona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6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es de poesía según su tem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lírica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ransmite emocione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narrativa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uenta una histori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heroica o épica: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abla de héro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religios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oesía de crítica social: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iene un mensaje social (femenismo, etc.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72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lenguaje poético: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a poesía es el género más intenso y concentrado a causa del lenguaje poético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voca imágenes sensoriales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a poesía fue escrita para ser cantada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391520" y="6400800"/>
            <a:ext cx="1752480" cy="458640"/>
            <a:chOff x="7391520" y="6400800"/>
            <a:chExt cx="1752480" cy="458640"/>
          </a:xfrm>
        </p:grpSpPr>
        <p:sp>
          <p:nvSpPr>
            <p:cNvPr id="77" name=""/>
            <p:cNvSpPr/>
            <p:nvPr/>
          </p:nvSpPr>
          <p:spPr>
            <a:xfrm>
              <a:off x="7391520" y="6400800"/>
              <a:ext cx="609480" cy="4572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8789" h="21600">
                  <a:moveTo>
                    <a:pt x="0" y="0"/>
                  </a:moveTo>
                  <a:lnTo>
                    <a:pt x="28789" y="0"/>
                  </a:lnTo>
                  <a:lnTo>
                    <a:pt x="28789" y="21600"/>
                  </a:lnTo>
                  <a:lnTo>
                    <a:pt x="0" y="21600"/>
                  </a:lnTo>
                  <a:close/>
                </a:path>
                <a:path fill="lightenLess" w="28789" h="21600">
                  <a:moveTo>
                    <a:pt x="0" y="0"/>
                  </a:moveTo>
                  <a:lnTo>
                    <a:pt x="28789" y="0"/>
                  </a:lnTo>
                  <a:lnTo>
                    <a:pt x="27389" y="1400"/>
                  </a:lnTo>
                  <a:lnTo>
                    <a:pt x="1400" y="1400"/>
                  </a:lnTo>
                  <a:close/>
                </a:path>
                <a:path fill="darken" w="28789" h="21600">
                  <a:moveTo>
                    <a:pt x="28789" y="0"/>
                  </a:moveTo>
                  <a:lnTo>
                    <a:pt x="28789" y="21600"/>
                  </a:lnTo>
                  <a:lnTo>
                    <a:pt x="27389" y="20200"/>
                  </a:lnTo>
                  <a:lnTo>
                    <a:pt x="27389" y="1400"/>
                  </a:lnTo>
                  <a:close/>
                </a:path>
                <a:path fill="darkenLess" w="28789" h="21600">
                  <a:moveTo>
                    <a:pt x="287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89" y="20200"/>
                  </a:lnTo>
                  <a:close/>
                </a:path>
                <a:path fill="lighten" w="287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89" h="21600">
                  <a:moveTo>
                    <a:pt x="7388" y="10800"/>
                  </a:moveTo>
                  <a:lnTo>
                    <a:pt x="21401" y="3794"/>
                  </a:lnTo>
                  <a:lnTo>
                    <a:pt x="21401" y="1780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7320" y="64911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oes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20:28:47Z</dcterms:created>
  <dc:creator>stacyc</dc:creator>
  <dc:description/>
  <dc:language>en-US</dc:language>
  <cp:lastModifiedBy>Carol Ross Stacy</cp:lastModifiedBy>
  <dcterms:modified xsi:type="dcterms:W3CDTF">2004-06-18T20:51:56Z</dcterms:modified>
  <cp:revision>136</cp:revision>
  <dc:subject/>
  <dc:title>AP de literatura</dc:title>
</cp:coreProperties>
</file>